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3C2-22EC-408C-9AF4-D669EF5A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8F4-E023-4A6E-83F4-EB1C4B50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333-CBD6-4A77-AA2E-88182CD7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21C-F0C8-4F6E-A4AA-1B13ED70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3BE-E821-419E-943C-0E2861C5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77B-4AB7-4551-B012-FAB278FD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544-9D38-4A6D-A236-9578E7A6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AEA-C3E6-41CB-86DB-A3766749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1A0-5664-4335-9650-DF9CA3EF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638-F36D-4459-A2C7-9046F85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30F-346A-4855-9525-E705FB41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23D-8209-4FBF-AD39-9F2B7DDE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24E8-D98F-4DC4-A9BE-B257DB277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3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 our thanks and p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o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our Redeem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whom and in wh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y the Spirit who dwells in u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worship you in joyful so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and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10:19Z</dcterms:created>
  <dc:creator>Anon Anon</dc:creator>
  <dc:description/>
  <dc:language>en-US</dc:language>
  <cp:lastModifiedBy>Anon Anon</cp:lastModifiedBy>
  <dcterms:modified xsi:type="dcterms:W3CDTF">2005-08-09T05:23:49Z</dcterms:modified>
  <cp:revision>11</cp:revision>
  <dc:subject/>
  <dc:title>PowerPoint Presentation</dc:title>
</cp:coreProperties>
</file>